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wmf" ContentType="image/x-wmf"/>
  <Override PartName="/ppt/media/image54.wmf" ContentType="image/x-wmf"/>
  <Override PartName="/ppt/media/image52.wmf" ContentType="image/x-wmf"/>
  <Override PartName="/ppt/media/image49.png" ContentType="image/png"/>
  <Override PartName="/ppt/media/image48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28.wmf" ContentType="image/x-wmf"/>
  <Override PartName="/ppt/media/image34.wmf" ContentType="image/x-wmf"/>
  <Override PartName="/ppt/media/image3.wmf" ContentType="image/x-wmf"/>
  <Override PartName="/ppt/media/image33.wmf" ContentType="image/x-wmf"/>
  <Override PartName="/ppt/media/image53.png" ContentType="image/png"/>
  <Override PartName="/ppt/media/image14.wmf" ContentType="image/x-wmf"/>
  <Override PartName="/ppt/media/image55.wmf" ContentType="image/x-wmf"/>
  <Override PartName="/ppt/media/image15.png" ContentType="image/png"/>
  <Override PartName="/ppt/media/image20.png" ContentType="image/png"/>
  <Override PartName="/ppt/media/image69.png" ContentType="image/png"/>
  <Override PartName="/ppt/media/image2.png" ContentType="image/png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29.wmf" ContentType="image/x-wmf"/>
  <Override PartName="/ppt/media/image1.png" ContentType="image/png"/>
  <Override PartName="/ppt/media/image66.wmf" ContentType="image/x-wmf"/>
  <Override PartName="/ppt/media/image26.png" ContentType="image/png"/>
  <Override PartName="/ppt/media/image27.wmf" ContentType="image/x-wmf"/>
  <Override PartName="/ppt/media/image64.wmf" ContentType="image/x-wmf"/>
  <Override PartName="/ppt/media/image2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61.png" ContentType="image/png"/>
  <Override PartName="/ppt/media/image59.wmf" ContentType="image/x-wmf"/>
  <Override PartName="/ppt/media/image65.png" ContentType="image/png"/>
  <Override PartName="/ppt/media/image22.wmf" ContentType="image/x-wmf"/>
  <Override PartName="/ppt/media/image58.wmf" ContentType="image/x-wmf"/>
  <Override PartName="/ppt/media/image21.wmf" ContentType="image/x-wmf"/>
  <Override PartName="/ppt/media/image10.png" ContentType="image/png"/>
  <Override PartName="/ppt/media/image50.wmf" ContentType="image/x-wmf"/>
  <Override PartName="/ppt/media/image1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wmf" ContentType="image/x-wmf"/>
  <Override PartName="/ppt/media/image16.wmf" ContentType="image/x-wmf"/>
  <Override PartName="/ppt/media/image60.wmf" ContentType="image/x-wmf"/>
  <Override PartName="/ppt/media/image38.png" ContentType="image/png"/>
  <Override PartName="/ppt/media/image19.png" ContentType="image/png"/>
  <Override PartName="/ppt/media/image41.wmf" ContentType="image/x-wmf"/>
  <Override PartName="/ppt/media/image12.wmf" ContentType="image/x-wmf"/>
  <Override PartName="/ppt/media/image51.png" ContentType="image/png"/>
  <Override PartName="/ppt/media/image17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9.png" ContentType="image/png"/>
  <Override PartName="/ppt/media/image5.png" ContentType="image/png"/>
  <Override PartName="/ppt/media/image56.png" ContentType="image/png"/>
  <Override PartName="/ppt/media/image13.wmf" ContentType="image/x-wmf"/>
  <Override PartName="/ppt/media/image32.wmf" ContentType="image/x-wmf"/>
  <Override PartName="/ppt/media/image35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3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7342-9229-4F27-9ADB-3B791194BDF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D825-1B0F-4235-A4EE-AB2CE855040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813-CD03-4B2B-A938-15ED1C96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258-E9E7-4F34-AAD4-28E0DE0C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9E8-B1F2-4CEE-8CB3-D6585C22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F0C-C3BB-4849-A9FE-B316B42B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F96-1821-4879-B3A0-0A9DF2F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804-6770-4524-9DFA-903A14D7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CDC-2B5B-4A43-B1D0-FEA7AAB0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007-7EC7-4D9D-B09D-65F69CF3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A65-CE70-4D84-A03C-E489AAAF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06E-69B3-49B6-A2D5-22F4B587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9A3-F188-4CD9-9700-6F83138F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321-D149-4806-96B7-75F198AA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1604-C9F9-4D63-BB33-AA0E36151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st Objects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rowsers and the 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847E-C694-4A24-92FF-C526F0957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DOMElement"/>
          <p:cNvPicPr/>
          <p:nvPr/>
        </p:nvPicPr>
        <p:blipFill>
          <a:blip r:embed="rId1"/>
          <a:stretch/>
        </p:blipFill>
        <p:spPr>
          <a:xfrm>
            <a:off x="2338560" y="1590840"/>
            <a:ext cx="4466880" cy="3676320"/>
          </a:xfrm>
          <a:prstGeom prst="rect">
            <a:avLst/>
          </a:prstGeom>
          <a:ln w="0">
            <a:noFill/>
          </a:ln>
        </p:spPr>
      </p:pic>
      <p:sp>
        <p:nvSpPr>
          <p:cNvPr id="104" name="Oval 5"/>
          <p:cNvSpPr/>
          <p:nvPr/>
        </p:nvSpPr>
        <p:spPr>
          <a:xfrm>
            <a:off x="5334120" y="2666880"/>
            <a:ext cx="144756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937560" y="2590920"/>
            <a:ext cx="189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turn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DOM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ost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th given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6324480" y="3200400"/>
            <a:ext cx="609840" cy="76212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2FB-E1F6-48F5-82E6-497BF3794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DOMElement"/>
          <p:cNvPicPr/>
          <p:nvPr/>
        </p:nvPicPr>
        <p:blipFill>
          <a:blip r:embed="rId1"/>
          <a:stretch/>
        </p:blipFill>
        <p:spPr>
          <a:xfrm>
            <a:off x="2338560" y="1590840"/>
            <a:ext cx="4466880" cy="36763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/>
          <p:cNvSpPr/>
          <p:nvPr/>
        </p:nvSpPr>
        <p:spPr>
          <a:xfrm>
            <a:off x="5334120" y="403848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2895480" y="2438280"/>
            <a:ext cx="1067040" cy="38124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349000" y="3770280"/>
            <a:ext cx="21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ome properti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in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rres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attribut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3657600" y="2819520"/>
            <a:ext cx="1676520" cy="1371600"/>
          </a:xfrm>
          <a:prstGeom prst="line">
            <a:avLst/>
          </a:prstGeom>
          <a:ln w="6480">
            <a:solidFill>
              <a:srgbClr val="0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678C-F49D-413C-AF32-FF6111395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881680" cy="2016360"/>
          </a:xfrm>
          <a:prstGeom prst="rect">
            <a:avLst/>
          </a:prstGeom>
          <a:ln w="0">
            <a:noFill/>
          </a:ln>
        </p:spPr>
      </p:pic>
      <p:sp>
        <p:nvSpPr>
          <p:cNvPr id="119" name="Oval 4"/>
          <p:cNvSpPr/>
          <p:nvPr/>
        </p:nvSpPr>
        <p:spPr>
          <a:xfrm>
            <a:off x="1981080" y="3048120"/>
            <a:ext cx="1600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582640" y="3389400"/>
            <a:ext cx="42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thod inherited by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r setting value of an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5CA0-BC73-48E3-B58E-AC0FC76E3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881680" cy="2016360"/>
          </a:xfrm>
          <a:prstGeom prst="rect">
            <a:avLst/>
          </a:prstGeom>
          <a:ln w="0">
            <a:noFill/>
          </a:ln>
        </p:spPr>
      </p:pic>
      <p:sp>
        <p:nvSpPr>
          <p:cNvPr id="125" name="Oval 4"/>
          <p:cNvSpPr/>
          <p:nvPr/>
        </p:nvSpPr>
        <p:spPr>
          <a:xfrm>
            <a:off x="1523880" y="3048120"/>
            <a:ext cx="35053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887920" y="3389400"/>
            <a:ext cx="46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: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s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 of HTML elemen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el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hanged to specified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CE4F-4086-4F3B-B70B-3EB8476B1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6315840" y="483696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mag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rc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chang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CFP22.png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when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over im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CFP2.png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when l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676520" y="4952880"/>
            <a:ext cx="4495680" cy="53352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613-1516-45F3-8FEA-85E1B170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ccurrence of something potentially interesting to a scri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mouseover and mouseou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HTML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trinsic event 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specify a script to be called when an event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onmouse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of attribute is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 even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4179-EC39-4F71-B9E9-AE126057F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781680" cy="50450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9B9E-67F9-4820-A7F9-9878DDDC5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73680" cy="540396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0C01-2A75-4B49-85A0-40D6BFE3A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7466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66F1-AC50-4893-A009-CF1755F34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NavBar"/>
          <p:cNvPicPr/>
          <p:nvPr/>
        </p:nvPicPr>
        <p:blipFill>
          <a:blip r:embed="rId1"/>
          <a:stretch/>
        </p:blipFill>
        <p:spPr>
          <a:xfrm>
            <a:off x="3048120" y="2328840"/>
            <a:ext cx="3124080" cy="301932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 flipH="1" rot="20700000">
            <a:off x="4038120" y="342900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070640" y="304812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ckground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aining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2666880" y="3581280"/>
            <a:ext cx="609840" cy="7632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E5BE-A856-4669-8464-8998773D6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ocument Object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n API that allows programs to interact with HTML (or XML)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ypical browsers, the JavaScript version of the API is provided via the </a:t>
            </a:r>
            <a:r>
              <a:rPr b="0" lang="en-US" sz="2400" spc="-1" strike="noStrike">
                <a:solidFill>
                  <a:srgbClr val="009999"/>
                </a:solidFill>
                <a:latin typeface="Lucida Sans Typewriter"/>
              </a:rPr>
              <a:t>doc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recommendations define standard 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other browser host objects are informal,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l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s are covered in this 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45DC-AA4C-411B-B1D2-EDE5533AD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09680" y="2573280"/>
            <a:ext cx="4100760" cy="149220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2090-5790-44CA-82C4-160EB309B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209680" y="2573280"/>
            <a:ext cx="4100760" cy="14922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4"/>
          <p:cNvSpPr/>
          <p:nvPr/>
        </p:nvSpPr>
        <p:spPr>
          <a:xfrm>
            <a:off x="2590920" y="2590920"/>
            <a:ext cx="1447560" cy="53316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504520" y="1789200"/>
            <a:ext cx="46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ike rollover, style needs to b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oth when entering and exiting the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BB3C-871A-43FF-BA2F-5AA87057E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209680" y="2573280"/>
            <a:ext cx="4100760" cy="1492200"/>
          </a:xfrm>
          <a:prstGeom prst="rect">
            <a:avLst/>
          </a:prstGeom>
          <a:ln w="0">
            <a:noFill/>
          </a:ln>
        </p:spPr>
      </p:pic>
      <p:sp>
        <p:nvSpPr>
          <p:cNvPr id="170" name="Oval 4"/>
          <p:cNvSpPr/>
          <p:nvPr/>
        </p:nvSpPr>
        <p:spPr>
          <a:xfrm>
            <a:off x="5334120" y="2590920"/>
            <a:ext cx="6094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969000" y="1752480"/>
            <a:ext cx="34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ference to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resenting th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d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4952880" y="2895480"/>
            <a:ext cx="5335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6172-5E4C-4915-B9CC-8BAF270A3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715000" cy="125100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B3D3-B1AB-4830-A64A-04C7AAF62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715000" cy="1251000"/>
          </a:xfrm>
          <a:prstGeom prst="rect">
            <a:avLst/>
          </a:prstGeom>
          <a:ln w="0">
            <a:noFill/>
          </a:ln>
        </p:spPr>
      </p:pic>
      <p:sp>
        <p:nvSpPr>
          <p:cNvPr id="181" name="Oval 4"/>
          <p:cNvSpPr/>
          <p:nvPr/>
        </p:nvSpPr>
        <p:spPr>
          <a:xfrm>
            <a:off x="4114800" y="2362320"/>
            <a:ext cx="990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3160" y="18651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ference to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2CA4-D776-42F6-8F68-517324CB4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715000" cy="1251000"/>
          </a:xfrm>
          <a:prstGeom prst="rect">
            <a:avLst/>
          </a:prstGeom>
          <a:ln w="0">
            <a:noFill/>
          </a:ln>
        </p:spPr>
      </p:pic>
      <p:sp>
        <p:nvSpPr>
          <p:cNvPr id="187" name="Oval 4"/>
          <p:cNvSpPr/>
          <p:nvPr/>
        </p:nvSpPr>
        <p:spPr>
          <a:xfrm>
            <a:off x="2895480" y="2743200"/>
            <a:ext cx="83844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041280" y="3084480"/>
            <a:ext cx="48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stances have a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tyl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th an Objec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D785-24DC-4870-98C2-FAD08B790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715000" cy="1251000"/>
          </a:xfrm>
          <a:prstGeom prst="rect">
            <a:avLst/>
          </a:prstGeom>
          <a:ln w="0">
            <a:noFill/>
          </a:ln>
        </p:spPr>
      </p:pic>
      <p:sp>
        <p:nvSpPr>
          <p:cNvPr id="193" name="Oval 4"/>
          <p:cNvSpPr/>
          <p:nvPr/>
        </p:nvSpPr>
        <p:spPr>
          <a:xfrm>
            <a:off x="3657600" y="2743200"/>
            <a:ext cx="21337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645360" y="3084480"/>
            <a:ext cx="39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perties 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tyl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rrespond to CSS style propert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e correspo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91D3-5076-4A6C-9A0D-AD5C524A0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forming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ty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names from names of CSS style 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SS property name contain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 hyph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’s property name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, all hyphens are removed and the letters that immediately followed hyphens are capit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background-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background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3276720" y="4038480"/>
            <a:ext cx="5331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5257800" y="563868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0B86-2A80-426A-8C16-F792613EF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715000" cy="1251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667520" y="3618000"/>
            <a:ext cx="565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et effect: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“silver”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becomes the specified valu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S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background-colo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property 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d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rowser immediately modifies the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8E08-436B-4DEB-89F5-46D1B5F9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syntax (not supported in IE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15160" cy="1090440"/>
          </a:xfrm>
          <a:prstGeom prst="rect">
            <a:avLst/>
          </a:prstGeom>
          <a:ln w="0">
            <a:noFill/>
          </a:ln>
        </p:spPr>
      </p:pic>
      <p:sp>
        <p:nvSpPr>
          <p:cNvPr id="211" name="Oval 5"/>
          <p:cNvSpPr/>
          <p:nvPr/>
        </p:nvSpPr>
        <p:spPr>
          <a:xfrm>
            <a:off x="2895480" y="2971800"/>
            <a:ext cx="1371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809440" y="3313080"/>
            <a:ext cx="39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ry DOM2-compliant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tyl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as a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etProperty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1B2E-C484-4825-A706-77D79241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Rollover”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2133720" cy="169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800600" y="3352680"/>
            <a:ext cx="2133720" cy="16956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 flipH="1" rot="20700000">
            <a:off x="2666520" y="441972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03440" y="26668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ursor not ove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28600" y="2666880"/>
            <a:ext cx="30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mage changes when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v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 flipH="1" rot="20700000">
            <a:off x="5181120" y="419112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6091-3AFC-4AA6-807F-C7FA2C57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syntax (not supported in IE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15160" cy="10904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"/>
          <p:cNvSpPr/>
          <p:nvPr/>
        </p:nvSpPr>
        <p:spPr>
          <a:xfrm rot="16200000">
            <a:off x="5333760" y="2590560"/>
            <a:ext cx="76320" cy="1752840"/>
          </a:xfrm>
          <a:custGeom>
            <a:avLst/>
            <a:gdLst>
              <a:gd name="textAreaLeft" fmla="*/ 48960 w 76320"/>
              <a:gd name="textAreaRight" fmla="*/ 76320 w 763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574160" y="358128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SS proper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unmodif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00000">
            <a:off x="7543800" y="327672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174720" y="2286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SS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 rot="5400000">
            <a:off x="6781680" y="266688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7001280" y="35416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mpty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mporta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6916-FB41-46DC-B417-9A64CD212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f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SS property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DOM2 syntax (not supported by IE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5841720" cy="28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1219320" y="4038480"/>
            <a:ext cx="7162560" cy="255600"/>
          </a:xfrm>
          <a:prstGeom prst="rect">
            <a:avLst/>
          </a:prstGeom>
          <a:ln w="0">
            <a:noFill/>
          </a:ln>
        </p:spPr>
      </p:pic>
      <p:sp>
        <p:nvSpPr>
          <p:cNvPr id="2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CB19-ADE3-4B42-91DD-3E36DC3C9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at HTML document elements form a tree structur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 allows scripts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d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ocumen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HelloTree"/>
          <p:cNvPicPr/>
          <p:nvPr/>
        </p:nvPicPr>
        <p:blipFill>
          <a:blip r:embed="rId1"/>
          <a:stretch/>
        </p:blipFill>
        <p:spPr>
          <a:xfrm>
            <a:off x="5562720" y="2209680"/>
            <a:ext cx="2430360" cy="243864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D12F-4E2D-4789-AD4C-CB71B8682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types of nodes in the DOM document tree, representing elements, text, comments, the document type declara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Object in the DOM document tree has properties and methods defined by th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st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EE32-ECA9-4DD4-98A0-9C2912650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51400" cy="403704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E77E-A4B7-4F52-A6F3-EBA4D58D3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838080" y="2274840"/>
            <a:ext cx="7467840" cy="251640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762120" y="2514600"/>
            <a:ext cx="41907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E63D-484F-4889-BD26-80A2737AD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433224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2BC9-CDD3-432B-924D-3227052F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838080" y="1647720"/>
            <a:ext cx="7543800" cy="38102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4407120" y="15606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ample HTM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5334120" y="4648320"/>
            <a:ext cx="144756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66840" y="5065560"/>
            <a:ext cx="362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unction we will write that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Nod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methods an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produce string re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7BB5-EE94-45B9-AA2F-09C742A37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produced by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reeOutline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TreeOutline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413856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674E-4AA4-4C3A-9D78-05E39F270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ument Tree: HTML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 values can be set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CSS properties, former has some 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clear that setting an HTML attribute, not merely a property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certain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pecial c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element.setAttribute(“class”, “warning”); //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element.className = “warning”; //req’d in IE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084640" cy="532080"/>
          </a:xfrm>
          <a:prstGeom prst="rect">
            <a:avLst/>
          </a:prstGeom>
          <a:ln w="0">
            <a:noFill/>
          </a:ln>
        </p:spPr>
      </p:pic>
      <p:sp>
        <p:nvSpPr>
          <p:cNvPr id="269" name="Oval 5"/>
          <p:cNvSpPr/>
          <p:nvPr/>
        </p:nvSpPr>
        <p:spPr>
          <a:xfrm>
            <a:off x="2438280" y="5486400"/>
            <a:ext cx="15242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428560" y="590400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class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reserved word in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D32B-A611-4760-91F6-B2754DDEF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FC2-7318-49F0-94B0-645618F14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E6 has a different ev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nce created for each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nce 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ame of event (click, mouseover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arg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de corresponding to document element that generated the eve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but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for click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m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mouseover).  This 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ent targ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5D41-CFE3-4CF1-ACAA-B6A577DD8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vent liste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unction that is called with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nce when a certain event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t listener is associated with a target element by calling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addEventListener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3AAF-592E-41A4-A60F-E014F36B6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4BFD-D675-42BF-8A03-454C5841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287" name="Oval 4"/>
          <p:cNvSpPr/>
          <p:nvPr/>
        </p:nvSpPr>
        <p:spPr>
          <a:xfrm>
            <a:off x="1295280" y="2362320"/>
            <a:ext cx="8384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83040" y="22096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58A0-6C78-4411-B4A9-DDB973AA4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293" name="Oval 5"/>
          <p:cNvSpPr/>
          <p:nvPr/>
        </p:nvSpPr>
        <p:spPr>
          <a:xfrm>
            <a:off x="4038480" y="2286000"/>
            <a:ext cx="9907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948480" y="26272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B068-5BFF-49E0-A344-9C61691E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 ev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HTML intrinsic events except keypress, keydown, keyup, and dblc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has some others that are typically targeted at 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ind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229600" cy="13683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4B45-2141-4622-B461-FCB5884BD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304" name="Oval 4"/>
          <p:cNvSpPr/>
          <p:nvPr/>
        </p:nvSpPr>
        <p:spPr>
          <a:xfrm>
            <a:off x="5029200" y="2362320"/>
            <a:ext cx="11430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940280" y="27036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86000" y="2895480"/>
            <a:ext cx="10666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1143000" y="297180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240" y="3352680"/>
            <a:ext cx="11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05E2-2141-4486-9A1F-DCBFFAD16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313" name="Oval 6"/>
          <p:cNvSpPr/>
          <p:nvPr/>
        </p:nvSpPr>
        <p:spPr>
          <a:xfrm>
            <a:off x="3429000" y="2895480"/>
            <a:ext cx="6094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967200" y="26668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v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A300-EFFA-4F23-AE8B-16EFE6E5A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319" name="Oval 4"/>
          <p:cNvSpPr/>
          <p:nvPr/>
        </p:nvSpPr>
        <p:spPr>
          <a:xfrm>
            <a:off x="6248520" y="23623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5931000" y="270360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rmally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B9A9-2BCF-4B44-A235-BFC55F495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EventHello"/>
          <p:cNvPicPr/>
          <p:nvPr/>
        </p:nvPicPr>
        <p:blipFill>
          <a:blip r:embed="rId1"/>
          <a:stretch/>
        </p:blipFill>
        <p:spPr>
          <a:xfrm>
            <a:off x="2133720" y="2286000"/>
            <a:ext cx="4952880" cy="2349360"/>
          </a:xfrm>
          <a:prstGeom prst="rect">
            <a:avLst/>
          </a:prstGeom>
          <a:ln w="0">
            <a:noFill/>
          </a:ln>
        </p:spPr>
      </p:pic>
      <p:sp>
        <p:nvSpPr>
          <p:cNvPr id="3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5119-BAFC-46FF-B2D3-83325799A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1068480" y="2741760"/>
            <a:ext cx="5941800" cy="6858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089120" y="251460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02F3-8522-4AD6-A9E0-6D6451CE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2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us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nces have additional properties for mous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8725-31F9-4653-BAD7-C304B9D9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5119560"/>
          </a:xfrm>
          <a:prstGeom prst="rect">
            <a:avLst/>
          </a:prstGeom>
          <a:ln w="0">
            <a:noFill/>
          </a:ln>
        </p:spPr>
      </p:pic>
      <p:sp>
        <p:nvSpPr>
          <p:cNvPr id="3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A7CE-F5E0-465B-8FDF-51C8A2FB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mouse “tra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MouseTrail"/>
          <p:cNvPicPr/>
          <p:nvPr/>
        </p:nvPicPr>
        <p:blipFill>
          <a:blip r:embed="rId1"/>
          <a:stretch/>
        </p:blipFill>
        <p:spPr>
          <a:xfrm>
            <a:off x="2133720" y="2705040"/>
            <a:ext cx="4572000" cy="244656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5"/>
          <p:cNvSpPr/>
          <p:nvPr/>
        </p:nvSpPr>
        <p:spPr>
          <a:xfrm flipH="1" rot="20700000">
            <a:off x="5334120" y="4419720"/>
            <a:ext cx="93600" cy="282960"/>
          </a:xfrm>
          <a:prstGeom prst="upArrow">
            <a:avLst>
              <a:gd name="adj1" fmla="val 50000"/>
              <a:gd name="adj2" fmla="val 7557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4EE8-64B2-4694-B393-F4DC830B6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 doc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ini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063880" cy="303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5949720" cy="1622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7696080" cy="766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"/>
          <p:cNvPicPr/>
          <p:nvPr/>
        </p:nvPicPr>
        <p:blipFill>
          <a:blip r:embed="rId4"/>
          <a:stretch/>
        </p:blipFill>
        <p:spPr>
          <a:xfrm>
            <a:off x="1219320" y="2286000"/>
            <a:ext cx="2743200" cy="36504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1"/>
          <p:cNvSpPr/>
          <p:nvPr/>
        </p:nvSpPr>
        <p:spPr>
          <a:xfrm>
            <a:off x="990720" y="38098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2520" y="41911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lip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154800" y="525780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dd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1066680" y="5486040"/>
            <a:ext cx="381240" cy="15228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8"/>
          <p:cNvSpPr/>
          <p:nvPr/>
        </p:nvSpPr>
        <p:spPr>
          <a:xfrm>
            <a:off x="4343400" y="4495680"/>
            <a:ext cx="21337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6540480" y="445608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ring uniqu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dentifying this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057E-4A39-48B9-A1AE-EB9C62ACC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sheet for “blip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3338640" cy="1776600"/>
          </a:xfrm>
          <a:prstGeom prst="rect">
            <a:avLst/>
          </a:prstGeom>
          <a:ln w="0">
            <a:noFill/>
          </a:ln>
        </p:spPr>
      </p:pic>
      <p:sp>
        <p:nvSpPr>
          <p:cNvPr id="358" name="Oval 5"/>
          <p:cNvSpPr/>
          <p:nvPr/>
        </p:nvSpPr>
        <p:spPr>
          <a:xfrm>
            <a:off x="1905120" y="3809880"/>
            <a:ext cx="16002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969200" y="43797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itially, not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139F-3B1C-4BFF-A16E-F97F8E571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handler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updateDivs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4929120" cy="250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6680160" cy="2667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3"/>
          <a:stretch/>
        </p:blipFill>
        <p:spPr>
          <a:xfrm>
            <a:off x="1295280" y="2895480"/>
            <a:ext cx="6782040" cy="249084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8"/>
          <p:cNvSpPr/>
          <p:nvPr/>
        </p:nvSpPr>
        <p:spPr>
          <a:xfrm>
            <a:off x="5562720" y="4267080"/>
            <a:ext cx="838080" cy="60984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474520" y="491328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vert mous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Number t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d append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DFAA-E2AE-4EA8-9470-4DC3C3FC4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handler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updateDivs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378560" cy="2293920"/>
          </a:xfrm>
          <a:prstGeom prst="rect">
            <a:avLst/>
          </a:prstGeom>
          <a:ln w="0">
            <a:noFill/>
          </a:ln>
        </p:spPr>
      </p:pic>
      <p:sp>
        <p:nvSpPr>
          <p:cNvPr id="374" name="Oval 7"/>
          <p:cNvSpPr/>
          <p:nvPr/>
        </p:nvSpPr>
        <p:spPr>
          <a:xfrm>
            <a:off x="4724280" y="388620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407840" y="4227480"/>
            <a:ext cx="33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d (remainder)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d to cycle through “blip” di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least-recently changed i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ext div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51E1-F32B-4357-967A-DA5D99853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231120" y="3352680"/>
            <a:ext cx="147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hen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v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pper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1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47960" cy="2774880"/>
          </a:xfrm>
          <a:prstGeom prst="rect">
            <a:avLst/>
          </a:prstGeom>
          <a:ln w="0">
            <a:noFill/>
          </a:ln>
        </p:spPr>
      </p:pic>
      <p:sp>
        <p:nvSpPr>
          <p:cNvPr id="381" name="Line 10"/>
          <p:cNvSpPr/>
          <p:nvPr/>
        </p:nvSpPr>
        <p:spPr>
          <a:xfrm flipV="1">
            <a:off x="1600200" y="3276720"/>
            <a:ext cx="762120" cy="76176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2"/>
          <p:cNvSpPr/>
          <p:nvPr/>
        </p:nvSpPr>
        <p:spPr>
          <a:xfrm flipH="1" rot="20700000">
            <a:off x="2819520" y="3581280"/>
            <a:ext cx="93600" cy="282960"/>
          </a:xfrm>
          <a:prstGeom prst="upArrow">
            <a:avLst>
              <a:gd name="adj1" fmla="val 50000"/>
              <a:gd name="adj2" fmla="val 7557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D0E3-DF0B-4011-ACE6-06F8F7051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231840" y="335268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pp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67040" cy="2786040"/>
          </a:xfrm>
          <a:prstGeom prst="rect">
            <a:avLst/>
          </a:prstGeom>
          <a:ln w="0">
            <a:noFill/>
          </a:ln>
        </p:spPr>
      </p:pic>
      <p:sp>
        <p:nvSpPr>
          <p:cNvPr id="388" name="Line 7"/>
          <p:cNvSpPr/>
          <p:nvPr/>
        </p:nvSpPr>
        <p:spPr>
          <a:xfrm>
            <a:off x="1676520" y="3962520"/>
            <a:ext cx="685800" cy="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 flipH="1" rot="20700000">
            <a:off x="2895120" y="312408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F232-58C7-47D4-94A8-F42875766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DropDownMenu"/>
          <p:cNvPicPr/>
          <p:nvPr/>
        </p:nvPicPr>
        <p:blipFill>
          <a:blip r:embed="rId1"/>
          <a:stretch/>
        </p:blipFill>
        <p:spPr>
          <a:xfrm>
            <a:off x="2133720" y="2362320"/>
            <a:ext cx="4724280" cy="26827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3738240" y="3962520"/>
            <a:ext cx="29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ckground color changes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 cursor moves over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6"/>
          <p:cNvSpPr/>
          <p:nvPr/>
        </p:nvSpPr>
        <p:spPr>
          <a:xfrm flipH="1">
            <a:off x="3123720" y="4191120"/>
            <a:ext cx="685800" cy="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/>
          <p:cNvSpPr/>
          <p:nvPr/>
        </p:nvSpPr>
        <p:spPr>
          <a:xfrm flipH="1" rot="20700000">
            <a:off x="2666520" y="403848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80C0-49E9-4166-92B5-FA9CB70D9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/>
          <p:cNvSpPr/>
          <p:nvPr/>
        </p:nvSpPr>
        <p:spPr>
          <a:xfrm>
            <a:off x="1676520" y="4876920"/>
            <a:ext cx="4647960" cy="60948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388560" y="4836960"/>
            <a:ext cx="27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lls to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how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function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use moves over/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8A6B-1847-4FFA-BFD2-C7932AECB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231480" y="3352680"/>
            <a:ext cx="142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isapp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hen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eaves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d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47960" cy="277488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6"/>
          <p:cNvSpPr/>
          <p:nvPr/>
        </p:nvSpPr>
        <p:spPr>
          <a:xfrm flipH="1" rot="20700000">
            <a:off x="3580920" y="426708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9D37-4D13-4857-8E8F-BAF071864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9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F58E-CCFA-44B1-ACC9-3F7BB9D9C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4805640" y="190512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 handlers will be add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avaScrip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2590920" y="2286000"/>
            <a:ext cx="21333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A193-6A51-4A9E-87F0-F0D6F533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20" name="Oval 5"/>
          <p:cNvSpPr/>
          <p:nvPr/>
        </p:nvSpPr>
        <p:spPr>
          <a:xfrm>
            <a:off x="1371600" y="2514600"/>
            <a:ext cx="6858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215280" y="285588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p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36A8-D07E-4EE9-8243-5FBAE7C3A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27" name="Oval 5"/>
          <p:cNvSpPr/>
          <p:nvPr/>
        </p:nvSpPr>
        <p:spPr>
          <a:xfrm>
            <a:off x="2133720" y="35053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444960" y="3541680"/>
            <a:ext cx="15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ach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nu item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(positio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7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3430440" cy="252360"/>
          </a:xfrm>
          <a:prstGeom prst="rect">
            <a:avLst/>
          </a:prstGeom>
          <a:ln w="0">
            <a:noFill/>
          </a:ln>
        </p:spPr>
      </p:pic>
      <p:sp>
        <p:nvSpPr>
          <p:cNvPr id="430" name="Oval 8"/>
          <p:cNvSpPr/>
          <p:nvPr/>
        </p:nvSpPr>
        <p:spPr>
          <a:xfrm>
            <a:off x="5486400" y="2514600"/>
            <a:ext cx="1752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3735360" y="3048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0F70-AD02-498F-95DC-1C3F5D92F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37" name="Oval 5"/>
          <p:cNvSpPr/>
          <p:nvPr/>
        </p:nvSpPr>
        <p:spPr>
          <a:xfrm>
            <a:off x="3124080" y="3809880"/>
            <a:ext cx="4572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31120" y="3581280"/>
            <a:ext cx="189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 a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ut of the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low and init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3813120" cy="239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"/>
          <p:cNvPicPr/>
          <p:nvPr/>
        </p:nvPicPr>
        <p:blipFill>
          <a:blip r:embed="rId3"/>
          <a:stretch/>
        </p:blipFill>
        <p:spPr>
          <a:xfrm>
            <a:off x="6248520" y="3352680"/>
            <a:ext cx="1374480" cy="1908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9"/>
          <p:cNvSpPr/>
          <p:nvPr/>
        </p:nvSpPr>
        <p:spPr>
          <a:xfrm>
            <a:off x="3735360" y="2971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"/>
          <p:cNvSpPr/>
          <p:nvPr/>
        </p:nvSpPr>
        <p:spPr>
          <a:xfrm flipV="1">
            <a:off x="1219320" y="4114800"/>
            <a:ext cx="1981080" cy="38088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7FA9-C084-4434-B84E-916222889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5"/>
          <p:cNvSpPr/>
          <p:nvPr/>
        </p:nvSpPr>
        <p:spPr>
          <a:xfrm>
            <a:off x="216000" y="3998880"/>
            <a:ext cx="148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6"/>
          <p:cNvSpPr/>
          <p:nvPr/>
        </p:nvSpPr>
        <p:spPr>
          <a:xfrm>
            <a:off x="2438280" y="4114800"/>
            <a:ext cx="68580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"/>
          <p:cNvSpPr/>
          <p:nvPr/>
        </p:nvSpPr>
        <p:spPr>
          <a:xfrm flipV="1">
            <a:off x="1523880" y="4267080"/>
            <a:ext cx="914400" cy="457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7B93-8C44-46AA-873F-186718753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tyl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191120" cy="658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724280" cy="1787400"/>
          </a:xfrm>
          <a:prstGeom prst="rect">
            <a:avLst/>
          </a:prstGeom>
          <a:ln w="0">
            <a:noFill/>
          </a:ln>
        </p:spPr>
      </p:pic>
      <p:sp>
        <p:nvSpPr>
          <p:cNvPr id="4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AD1-C77C-4F05-977D-38F920907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tyl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191120" cy="6588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724280" cy="1787400"/>
          </a:xfrm>
          <a:prstGeom prst="rect">
            <a:avLst/>
          </a:prstGeom>
          <a:ln w="0">
            <a:noFill/>
          </a:ln>
        </p:spPr>
      </p:pic>
      <p:sp>
        <p:nvSpPr>
          <p:cNvPr id="463" name="Oval 6"/>
          <p:cNvSpPr/>
          <p:nvPr/>
        </p:nvSpPr>
        <p:spPr>
          <a:xfrm>
            <a:off x="3581280" y="2895480"/>
            <a:ext cx="23623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6082920" y="262728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p menu item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“positioned”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t moved from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low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794E-3DEC-47AD-914E-4B907240D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tyl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191120" cy="658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724280" cy="1787400"/>
          </a:xfrm>
          <a:prstGeom prst="rect">
            <a:avLst/>
          </a:prstGeom>
          <a:ln w="0">
            <a:noFill/>
          </a:ln>
        </p:spPr>
      </p:pic>
      <p:sp>
        <p:nvSpPr>
          <p:cNvPr id="471" name="Oval 6"/>
          <p:cNvSpPr/>
          <p:nvPr/>
        </p:nvSpPr>
        <p:spPr>
          <a:xfrm>
            <a:off x="5105520" y="3124080"/>
            <a:ext cx="8380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572000" y="4419720"/>
            <a:ext cx="8380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161040" y="3008160"/>
            <a:ext cx="25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pper left corn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 div overl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ottom border of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5943240" y="3352680"/>
            <a:ext cx="304920" cy="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5334120" y="3733920"/>
            <a:ext cx="838080" cy="76176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5131-907A-4434-8A2A-361BE2C9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2057400" y="4343400"/>
            <a:ext cx="1066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733920" y="4876920"/>
            <a:ext cx="685800" cy="60948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20360" y="5791320"/>
            <a:ext cx="53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tice that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d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f image is first argument to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h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H="1" flipV="1">
            <a:off x="2970000" y="4642920"/>
            <a:ext cx="306360" cy="114804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4114800" y="5486040"/>
            <a:ext cx="0" cy="30492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C8D8-CDD4-4A66-891D-7C54CD3D2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tyl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191120" cy="6588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724280" cy="1787400"/>
          </a:xfrm>
          <a:prstGeom prst="rect">
            <a:avLst/>
          </a:prstGeom>
          <a:ln w="0">
            <a:noFill/>
          </a:ln>
        </p:spPr>
      </p:pic>
      <p:sp>
        <p:nvSpPr>
          <p:cNvPr id="482" name="Oval 6"/>
          <p:cNvSpPr/>
          <p:nvPr/>
        </p:nvSpPr>
        <p:spPr>
          <a:xfrm>
            <a:off x="4038480" y="4648320"/>
            <a:ext cx="14479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1451880" y="464832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 drawn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ower z-index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B966-62CA-4EB6-A50E-04D8FA84C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vent handlers to top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ddEventHandlers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5105520" cy="573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820200" cy="584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"/>
          <p:cNvPicPr/>
          <p:nvPr/>
        </p:nvPicPr>
        <p:blipFill>
          <a:blip r:embed="rId3"/>
          <a:stretch/>
        </p:blipFill>
        <p:spPr>
          <a:xfrm>
            <a:off x="1066680" y="4952880"/>
            <a:ext cx="7239240" cy="312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4"/>
          <a:stretch/>
        </p:blipFill>
        <p:spPr>
          <a:xfrm>
            <a:off x="1066680" y="4648320"/>
            <a:ext cx="6782040" cy="31572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10"/>
          <p:cNvSpPr/>
          <p:nvPr/>
        </p:nvSpPr>
        <p:spPr>
          <a:xfrm>
            <a:off x="990720" y="4419720"/>
            <a:ext cx="75960" cy="53316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3240" y="42670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3744-FD3F-4597-9D3E-399289E2A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vent handlers to top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ddEventListener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5105520" cy="5731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820200" cy="584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" descr=""/>
          <p:cNvPicPr/>
          <p:nvPr/>
        </p:nvPicPr>
        <p:blipFill>
          <a:blip r:embed="rId3"/>
          <a:stretch/>
        </p:blipFill>
        <p:spPr>
          <a:xfrm>
            <a:off x="1066680" y="4952880"/>
            <a:ext cx="7239240" cy="3128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"/>
          <p:cNvPicPr/>
          <p:nvPr/>
        </p:nvPicPr>
        <p:blipFill>
          <a:blip r:embed="rId4"/>
          <a:stretch/>
        </p:blipFill>
        <p:spPr>
          <a:xfrm>
            <a:off x="1066680" y="4648320"/>
            <a:ext cx="6782040" cy="315720"/>
          </a:xfrm>
          <a:prstGeom prst="rect">
            <a:avLst/>
          </a:prstGeom>
          <a:ln w="0">
            <a:noFill/>
          </a:ln>
        </p:spPr>
      </p:pic>
      <p:sp>
        <p:nvSpPr>
          <p:cNvPr id="502" name="Oval 8"/>
          <p:cNvSpPr/>
          <p:nvPr/>
        </p:nvSpPr>
        <p:spPr>
          <a:xfrm>
            <a:off x="1066680" y="4952880"/>
            <a:ext cx="20574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1136520" y="537048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menuBar1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will be target of events; adding reference to the 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iv makes it easy for event handler to access the 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7FFA-3D6E-4B95-9293-6C513FD76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3718080" cy="3142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5724360" cy="1590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"/>
          <p:cNvPicPr/>
          <p:nvPr/>
        </p:nvPicPr>
        <p:blipFill>
          <a:blip r:embed="rId3"/>
          <a:stretch/>
        </p:blipFill>
        <p:spPr>
          <a:xfrm>
            <a:off x="1447920" y="3809880"/>
            <a:ext cx="3558960" cy="2714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"/>
          <p:cNvPicPr/>
          <p:nvPr/>
        </p:nvPicPr>
        <p:blipFill>
          <a:blip r:embed="rId4"/>
          <a:stretch/>
        </p:blipFill>
        <p:spPr>
          <a:xfrm>
            <a:off x="1371600" y="4038480"/>
            <a:ext cx="7238880" cy="163368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C532-84AD-4F59-9727-133548117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3718080" cy="3142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5724360" cy="1590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3"/>
          <a:stretch/>
        </p:blipFill>
        <p:spPr>
          <a:xfrm>
            <a:off x="1447920" y="3809880"/>
            <a:ext cx="3558960" cy="271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4"/>
          <a:stretch/>
        </p:blipFill>
        <p:spPr>
          <a:xfrm>
            <a:off x="1371600" y="4038480"/>
            <a:ext cx="7238880" cy="163368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7"/>
          <p:cNvSpPr/>
          <p:nvPr/>
        </p:nvSpPr>
        <p:spPr>
          <a:xfrm>
            <a:off x="1523880" y="251460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8"/>
          <p:cNvSpPr/>
          <p:nvPr/>
        </p:nvSpPr>
        <p:spPr>
          <a:xfrm>
            <a:off x="1523880" y="434340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215640" y="2855880"/>
            <a:ext cx="134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ce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isibilit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 flipV="1">
            <a:off x="1066680" y="2742840"/>
            <a:ext cx="457200" cy="22860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143000" y="4343400"/>
            <a:ext cx="380880" cy="22860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8B35-5672-49EA-AF42-022A314A4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3718080" cy="314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5724360" cy="1590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"/>
          <p:cNvPicPr/>
          <p:nvPr/>
        </p:nvPicPr>
        <p:blipFill>
          <a:blip r:embed="rId3"/>
          <a:stretch/>
        </p:blipFill>
        <p:spPr>
          <a:xfrm>
            <a:off x="1447920" y="3809880"/>
            <a:ext cx="3558960" cy="2714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"/>
          <p:cNvPicPr/>
          <p:nvPr/>
        </p:nvPicPr>
        <p:blipFill>
          <a:blip r:embed="rId4"/>
          <a:stretch/>
        </p:blipFill>
        <p:spPr>
          <a:xfrm>
            <a:off x="1371600" y="4038480"/>
            <a:ext cx="7238880" cy="16336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7"/>
          <p:cNvSpPr/>
          <p:nvPr/>
        </p:nvSpPr>
        <p:spPr>
          <a:xfrm>
            <a:off x="0" y="2057400"/>
            <a:ext cx="137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ub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use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8"/>
          <p:cNvSpPr/>
          <p:nvPr/>
        </p:nvSpPr>
        <p:spPr>
          <a:xfrm flipV="1">
            <a:off x="1219320" y="2361960"/>
            <a:ext cx="457200" cy="22860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B6EB-451B-4C99-AEFB-87DECCEA4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3718080" cy="314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5724360" cy="1590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3"/>
          <a:stretch/>
        </p:blipFill>
        <p:spPr>
          <a:xfrm>
            <a:off x="1447920" y="3809880"/>
            <a:ext cx="3558960" cy="271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"/>
          <p:cNvPicPr/>
          <p:nvPr/>
        </p:nvPicPr>
        <p:blipFill>
          <a:blip r:embed="rId4"/>
          <a:stretch/>
        </p:blipFill>
        <p:spPr>
          <a:xfrm>
            <a:off x="1371600" y="4038480"/>
            <a:ext cx="7238880" cy="16336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7"/>
          <p:cNvSpPr/>
          <p:nvPr/>
        </p:nvSpPr>
        <p:spPr>
          <a:xfrm>
            <a:off x="139680" y="3618000"/>
            <a:ext cx="143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us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urso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m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ver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tem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sel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scend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 flipV="1">
            <a:off x="1295280" y="4191120"/>
            <a:ext cx="457200" cy="30456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7F65-F5CD-413A-B0CE-79CE6FEE0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094280"/>
          </a:xfrm>
          <a:prstGeom prst="rect">
            <a:avLst/>
          </a:prstGeom>
          <a:ln w="0">
            <a:noFill/>
          </a:ln>
        </p:spPr>
      </p:pic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D1A8-26C0-41C6-B43B-27C012FE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vent handlers to drop-dow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ddEventListener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7007400" cy="2905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1295280" y="4724280"/>
            <a:ext cx="6629400" cy="595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"/>
          <p:cNvPicPr/>
          <p:nvPr/>
        </p:nvPicPr>
        <p:blipFill>
          <a:blip r:embed="rId3"/>
          <a:stretch/>
        </p:blipFill>
        <p:spPr>
          <a:xfrm>
            <a:off x="1447920" y="2743200"/>
            <a:ext cx="3765600" cy="961920"/>
          </a:xfrm>
          <a:prstGeom prst="rect">
            <a:avLst/>
          </a:prstGeom>
          <a:ln w="0">
            <a:noFill/>
          </a:ln>
        </p:spPr>
      </p:pic>
      <p:sp>
        <p:nvSpPr>
          <p:cNvPr id="5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79C5-610E-4CFF-B0B1-77AC562B2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2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98520" cy="243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895480" cy="255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6858000" cy="1170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8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2936880" cy="674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"/>
          <p:cNvPicPr/>
          <p:nvPr/>
        </p:nvPicPr>
        <p:blipFill>
          <a:blip r:embed="rId5"/>
          <a:stretch/>
        </p:blipFill>
        <p:spPr>
          <a:xfrm>
            <a:off x="1219320" y="1905120"/>
            <a:ext cx="6750000" cy="814320"/>
          </a:xfrm>
          <a:prstGeom prst="rect">
            <a:avLst/>
          </a:prstGeom>
          <a:ln w="0">
            <a:noFill/>
          </a:ln>
        </p:spPr>
      </p:pic>
      <p:sp>
        <p:nvSpPr>
          <p:cNvPr id="5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634-8DB0-48D1-8BAF-EE3AF1623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881680" cy="201636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B8A5-7F34-4BAD-A709-8D30A5481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2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98520" cy="243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895480" cy="255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6858000" cy="1170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2936880" cy="6746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1219320" y="1905120"/>
            <a:ext cx="6750000" cy="81432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8"/>
          <p:cNvSpPr/>
          <p:nvPr/>
        </p:nvSpPr>
        <p:spPr>
          <a:xfrm>
            <a:off x="231480" y="1447920"/>
            <a:ext cx="142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yle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is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ub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scend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"/>
          <p:cNvSpPr/>
          <p:nvPr/>
        </p:nvSpPr>
        <p:spPr>
          <a:xfrm>
            <a:off x="1143000" y="1981080"/>
            <a:ext cx="380880" cy="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E850-78CF-4611-A868-FD431D94F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2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98520" cy="243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895480" cy="255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6858000" cy="1170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2936880" cy="6746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5"/>
          <a:stretch/>
        </p:blipFill>
        <p:spPr>
          <a:xfrm>
            <a:off x="1219320" y="1905120"/>
            <a:ext cx="6750000" cy="814320"/>
          </a:xfrm>
          <a:prstGeom prst="rect">
            <a:avLst/>
          </a:prstGeom>
          <a:ln w="0">
            <a:noFill/>
          </a:ln>
        </p:spPr>
      </p:pic>
      <p:sp>
        <p:nvSpPr>
          <p:cNvPr id="578" name="Oval 8"/>
          <p:cNvSpPr/>
          <p:nvPr/>
        </p:nvSpPr>
        <p:spPr>
          <a:xfrm>
            <a:off x="2133720" y="2666880"/>
            <a:ext cx="19810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4181760" y="2627280"/>
            <a:ext cx="42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n’t bubble up to showDropDown s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e drop-down must be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D92-8546-4941-9F8C-6B2BD6A97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oter Placeholder 2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98520" cy="243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895480" cy="255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6858000" cy="1170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2936880" cy="674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"/>
          <p:cNvPicPr/>
          <p:nvPr/>
        </p:nvPicPr>
        <p:blipFill>
          <a:blip r:embed="rId5"/>
          <a:stretch/>
        </p:blipFill>
        <p:spPr>
          <a:xfrm>
            <a:off x="1219320" y="1905120"/>
            <a:ext cx="6750000" cy="8143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9"/>
          <p:cNvSpPr/>
          <p:nvPr/>
        </p:nvSpPr>
        <p:spPr>
          <a:xfrm>
            <a:off x="63360" y="3846600"/>
            <a:ext cx="15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useou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desce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990720" y="4038480"/>
            <a:ext cx="533160" cy="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43AA-B560-4676-9BAB-15C2E5F3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Cance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r provide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ault event 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ertain elements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ick on hyper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ick on submit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listener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user-specified lis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topPropagatio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affect default lis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cal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preventDefaul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Event instance to cancel default event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C10F-60D0-4E81-A706-883EFC73A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05400" cy="1622520"/>
          </a:xfrm>
          <a:prstGeom prst="rect">
            <a:avLst/>
          </a:prstGeom>
          <a:ln w="0">
            <a:noFill/>
          </a:ln>
        </p:spPr>
      </p:pic>
      <p:sp>
        <p:nvSpPr>
          <p:cNvPr id="5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643C-A47B-47B2-9BDD-3463F7AA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487080" y="1524960"/>
            <a:ext cx="827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body onload="addListeners();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form id="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validatedForm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" action="http://www.example.com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label&gt;Required inpu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input type="text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name="requiredField" id="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requiredField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/labe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input type="submit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name="submit" value="Click to submit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4FFC-54EB-485D-8847-7B03EE3C2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565680" cy="482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702560" cy="8352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6248520" cy="1722600"/>
          </a:xfrm>
          <a:prstGeom prst="rect">
            <a:avLst/>
          </a:prstGeom>
          <a:ln w="0">
            <a:noFill/>
          </a:ln>
        </p:spPr>
      </p:pic>
      <p:sp>
        <p:nvSpPr>
          <p:cNvPr id="6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12F4-92A1-4C80-8357-00698AC72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565680" cy="482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702560" cy="8352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6248520" cy="1722600"/>
          </a:xfrm>
          <a:prstGeom prst="rect">
            <a:avLst/>
          </a:prstGeom>
          <a:ln w="0">
            <a:noFill/>
          </a:ln>
        </p:spPr>
      </p:pic>
      <p:sp>
        <p:nvSpPr>
          <p:cNvPr id="614" name="Oval 6"/>
          <p:cNvSpPr/>
          <p:nvPr/>
        </p:nvSpPr>
        <p:spPr>
          <a:xfrm>
            <a:off x="3429000" y="1981080"/>
            <a:ext cx="9907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3339360" y="232236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isten for form to be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1F16-742E-4FC5-A939-D7B1FB4B4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565680" cy="4827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702560" cy="83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6248520" cy="1722600"/>
          </a:xfrm>
          <a:prstGeom prst="rect">
            <a:avLst/>
          </a:prstGeom>
          <a:ln w="0">
            <a:noFill/>
          </a:ln>
        </p:spPr>
      </p:pic>
      <p:sp>
        <p:nvSpPr>
          <p:cNvPr id="622" name="Oval 6"/>
          <p:cNvSpPr/>
          <p:nvPr/>
        </p:nvSpPr>
        <p:spPr>
          <a:xfrm>
            <a:off x="3048120" y="3124080"/>
            <a:ext cx="18288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4408200" y="232236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ust us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valu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property to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 entered in text field 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"/>
          <p:cNvSpPr/>
          <p:nvPr/>
        </p:nvSpPr>
        <p:spPr>
          <a:xfrm>
            <a:off x="4648320" y="2895480"/>
            <a:ext cx="0" cy="30492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6E22-8A73-4A5F-A45C-4FB62A5F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565680" cy="4827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702560" cy="8352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6248520" cy="1722600"/>
          </a:xfrm>
          <a:prstGeom prst="rect">
            <a:avLst/>
          </a:prstGeom>
          <a:ln w="0">
            <a:noFill/>
          </a:ln>
        </p:spPr>
      </p:pic>
      <p:sp>
        <p:nvSpPr>
          <p:cNvPr id="631" name="Oval 6"/>
          <p:cNvSpPr/>
          <p:nvPr/>
        </p:nvSpPr>
        <p:spPr>
          <a:xfrm>
            <a:off x="1676520" y="3352680"/>
            <a:ext cx="9144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2578680" y="4532400"/>
            <a:ext cx="47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gular expression literal re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t of strings consisting only of white spa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8"/>
          <p:cNvSpPr/>
          <p:nvPr/>
        </p:nvSpPr>
        <p:spPr>
          <a:xfrm flipH="1" flipV="1">
            <a:off x="2590560" y="3581280"/>
            <a:ext cx="228600" cy="91440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1E31-E188-4347-AD1F-7106A32D4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881680" cy="2016360"/>
          </a:xfrm>
          <a:prstGeom prst="rect">
            <a:avLst/>
          </a:prstGeom>
          <a:ln w="0">
            <a:noFill/>
          </a:ln>
        </p:spPr>
      </p:pic>
      <p:sp>
        <p:nvSpPr>
          <p:cNvPr id="98" name="Oval 4"/>
          <p:cNvSpPr/>
          <p:nvPr/>
        </p:nvSpPr>
        <p:spPr>
          <a:xfrm>
            <a:off x="4497480" y="2741760"/>
            <a:ext cx="26683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711320" y="2322360"/>
            <a:ext cx="32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M method returning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F7FD-9E49-409E-9DB3-392C69213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565680" cy="4827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702560" cy="835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6248520" cy="1722600"/>
          </a:xfrm>
          <a:prstGeom prst="rect">
            <a:avLst/>
          </a:prstGeom>
          <a:ln w="0">
            <a:noFill/>
          </a:ln>
        </p:spPr>
      </p:pic>
      <p:sp>
        <p:nvSpPr>
          <p:cNvPr id="640" name="Oval 6"/>
          <p:cNvSpPr/>
          <p:nvPr/>
        </p:nvSpPr>
        <p:spPr>
          <a:xfrm>
            <a:off x="2057400" y="4038480"/>
            <a:ext cx="17524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2733480" y="45324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ncel browser’s default submit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9307-99C9-407F-9761-50CAD934C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Element’s provide methods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                         causes text in text field to be selected and a select event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7772400" cy="2035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2311560" cy="345960"/>
          </a:xfrm>
          <a:prstGeom prst="rect">
            <a:avLst/>
          </a:prstGeom>
          <a:ln w="0">
            <a:noFill/>
          </a:ln>
        </p:spPr>
      </p:pic>
      <p:sp>
        <p:nvSpPr>
          <p:cNvPr id="6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0E04-8A75-4C15-8C13-3F9EA477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ng Hos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a JavaScript program test for the existence of a certain host o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have a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tProperty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’re also not sure tha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or tha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4191120" cy="2952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2"/>
          <a:stretch/>
        </p:blipFill>
        <p:spPr>
          <a:xfrm>
            <a:off x="1371600" y="5257800"/>
            <a:ext cx="7010280" cy="3618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CD0D-7B91-428E-9606-E694F8F42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ng Hos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browser DOM-compli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ocument.implementation(“Core”, “2.0”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browser implemen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OM 2 Core module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what does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cripts attempt to directly determine the browser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new brows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browsers can “lie” about what they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26F-ED7B-499D-AF58-C9876BBFC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mon Hos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s also provide many non-DOM host objects as propertie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 formal stand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fines these objects, many host objects are very similar in IE6 and Moz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2777-AE2F-49F4-A240-EF2796DAF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5:50:36Z</dcterms:created>
  <dc:creator>Duquesne University</dc:creator>
  <dc:description/>
  <dc:language>en-US</dc:language>
  <cp:lastModifiedBy>user</cp:lastModifiedBy>
  <dcterms:modified xsi:type="dcterms:W3CDTF">2017-09-29T10:51:56Z</dcterms:modified>
  <cp:revision>49</cp:revision>
  <dc:subject/>
  <dc:title>Chapter 5 Host Objects: Browsers and the DOM</dc:title>
</cp:coreProperties>
</file>